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959-D489-4A1A-8C48-0BBA1259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062-6B10-498E-9826-84F4627F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529-ABFA-4D0D-AAA9-72057B11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2DE-1B91-441A-9CA9-60EF7333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A65-D9BB-44A3-9B6E-2B90B60C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B16-35E6-4557-BE81-A09B10D3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C4A-78F1-4671-ACD2-A7779A0B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35C-0F07-481F-8949-A6D1A6F8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A34-3BEC-4D70-9AFD-D341E099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757-EB8E-4F5F-9E51-906AE2BE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23B-E248-4975-BE51-33DB4710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DCC-10DA-49C1-BDD0-94BC7F9F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A5EC-F8E5-4FA8-9847-D69F52B27E1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3920" y="16200"/>
            <a:ext cx="495756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(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3920" y="849240"/>
          <a:ext cx="8697960" cy="5357880"/>
        </p:xfrm>
        <a:graphic>
          <a:graphicData uri="http://schemas.openxmlformats.org/drawingml/2006/table">
            <a:tbl>
              <a:tblPr/>
              <a:tblGrid>
                <a:gridCol w="1154160"/>
                <a:gridCol w="1314360"/>
                <a:gridCol w="1542960"/>
                <a:gridCol w="2057400"/>
                <a:gridCol w="1200240"/>
                <a:gridCol w="14288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CT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C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SU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1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4657320" y="6199200"/>
            <a:ext cx="27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ssica Posner</cp:lastModifiedBy>
  <dcterms:modified xsi:type="dcterms:W3CDTF">2005-05-02T19:00:25Z</dcterms:modified>
  <cp:revision>2</cp:revision>
  <dc:subject/>
  <dc:title>PowerPoint Presentation</dc:title>
</cp:coreProperties>
</file>